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5F0-B009-42B9-8755-53E2EC27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DD0-9E0E-43B7-9401-4FF041DA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BEE-2BC2-4A46-86DA-2FB66829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3335-638B-40CA-91A3-ACE890A9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5DC-7E84-46F6-A0D0-97FEA67A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9CF-2FDD-4123-93F4-BB2F0C3E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5A5-65C1-4609-8E1F-BA924BBA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E69-0151-46F2-B08B-82D05B6B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78C-0263-4386-9280-B1391BF2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83E-71A8-411A-B979-EF053B92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2E3-4CE0-4AAA-B2AA-A7658AC0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A4B-E57F-4A7A-9C57-6519A663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BBF5-6873-409B-BB29-84A3CB60A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tion, Rates, &amp; Pattern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vergent 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species become less a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aptive Rad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of the same species adapt to a variety of environmental conditions &amp; radiate out into separate species through divergent evolution &amp;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Deer &amp; Moose; Finches of Galapa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vergent Ev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related species become more similar - occurs when unrelated species adapt to similar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Sharks &amp; 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 &amp;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Cacti &amp; African Eupho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Staff:HolmgrS:Downloads:What_Do_You_Get_if_You_Cross_a_Mouse_With_a_Mango___Speciation_and_Varieties_of_Species.mov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by which new species evolve from ancestral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quiremen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manent barrier to breed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members of the sam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so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 - a physical barr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s a pop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river, mountain range, ocea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- occurs when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same species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ing fert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different mating seasons, diffe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ing times, polyploi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dual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f all existing species occurred slowly &amp; steadily over millions of yea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low &amp; steady change over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unctuated Equilibri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 stay the same unless there is pressure to change; when environmental changes exert pressure, change occurs rapi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ientists do not agree about the rate at which evolution occurs; fossil evidence supports both ideas but fossil records are incomplete and do not allow for the study of changes in soft tissues because only hard parts are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3:45:58Z</dcterms:created>
  <dc:creator>Clayton Johns</dc:creator>
  <dc:description/>
  <dc:language>en-US</dc:language>
  <cp:lastModifiedBy>Clayton Johns</cp:lastModifiedBy>
  <dcterms:modified xsi:type="dcterms:W3CDTF">2010-03-09T15:14:47Z</dcterms:modified>
  <cp:revision>2</cp:revision>
  <dc:subject/>
  <dc:title>Speciation, Rates, &amp; Patterns of Evolution</dc:title>
</cp:coreProperties>
</file>